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C0B-9B53-4A09-A8C9-076489A6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0E6-DB70-42AB-977A-365CB77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D95-AC3E-4026-BD44-FBEC3A3B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8F2-A071-4EC1-BD6D-3522610E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31D-D42C-4D2A-962D-7540114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B3C-FE5F-4A92-AE24-766DD4B3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B72-EE6A-46C7-9787-07450FCC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426-8DB3-4F89-85BE-ACCB50A0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2D0-3027-4960-ACE6-44BB20FE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913-51A4-4429-9987-E4E7C5F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09B-A273-4C95-9DD1-6ADC6858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662-07F6-442F-99B9-ECE0A40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62CC-7CA1-49D1-B7A0-BFE59B21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02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oper Black"/>
              </a:rPr>
              <a:t>A website that can be collaboratively ed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35d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Wiki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71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39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840" y="11174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9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533520" y="1600200"/>
            <a:ext cx="3962160" cy="2295360"/>
          </a:xfrm>
          <a:prstGeom prst="pie">
            <a:avLst/>
          </a:prstGeom>
          <a:solidFill>
            <a:srgbClr val="a5d2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oper Black"/>
              </a:rPr>
              <a:t>Only on 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User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85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9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2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228600" y="1447920"/>
            <a:ext cx="41911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Only on 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Cooper Black"/>
              </a:rPr>
              <a:t>Collaborate? Wh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12416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apple-ipad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4824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ffd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4b25"/>
                </a:solidFill>
                <a:latin typeface="Arial Narrow"/>
              </a:rPr>
              <a:t>Lets look at 2 great examples of collaborative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 the communication age Collaboration is the key to suc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oper Black"/>
              </a:rPr>
              <a:t>Collaboration in K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ab_01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408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Team work, makes the dream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b0a"/>
            </a:gs>
            <a:gs pos="50000">
              <a:srgbClr val="ffb343"/>
            </a:gs>
            <a:gs pos="100000">
              <a:srgbClr val="271b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d Free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5280" y="53352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y Wiki??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228600"/>
            <a:ext cx="7162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at does it need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320px-Computer-aj_aj_ashton_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Network-Internet-Connection-icon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353040" cy="335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514840"/>
            <a:ext cx="8001000" cy="1343160"/>
          </a:xfrm>
          <a:prstGeom prst="rect">
            <a:avLst/>
          </a:prstGeom>
          <a:ln w="0">
            <a:noFill/>
          </a:ln>
        </p:spPr>
      </p:pic>
      <p:pic>
        <p:nvPicPr>
          <p:cNvPr id="58" name="Web-Browsers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3048120" cy="2873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oper Black"/>
              </a:rPr>
              <a:t>A brief history of wi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9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rch 25, 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(Hawaiian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To collaborate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91px-%22Brion%22_and_Ward-edited" descr="File:&quot;Brion&quot; and Ward-edited.jpg"/>
          <p:cNvPicPr/>
          <p:nvPr/>
        </p:nvPicPr>
        <p:blipFill>
          <a:blip r:embed="rId5"/>
          <a:stretch/>
        </p:blipFill>
        <p:spPr>
          <a:xfrm>
            <a:off x="5181480" y="914400"/>
            <a:ext cx="3724560" cy="5705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96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491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8534520" cy="403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610480" cy="5061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124000" y="2057400"/>
            <a:ext cx="702000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newsflash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46:16Z</dcterms:created>
  <dc:creator>ABC</dc:creator>
  <dc:description/>
  <dc:language>en-US</dc:language>
  <cp:lastModifiedBy>ABC</cp:lastModifiedBy>
  <dcterms:modified xsi:type="dcterms:W3CDTF">2011-10-14T05:10:48Z</dcterms:modified>
  <cp:revision>21</cp:revision>
  <dc:subject/>
  <dc:title>Wiki By Anwar</dc:title>
</cp:coreProperties>
</file>